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11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8.jpeg" ContentType="image/jpeg"/>
  <Override PartName="/ppt/media/image9.gif" ContentType="image/gif"/>
  <Override PartName="/ppt/media/image22.wmf" ContentType="image/x-wmf"/>
  <Override PartName="/ppt/media/image3.jpeg" ContentType="image/jpeg"/>
  <Override PartName="/ppt/media/image12.gif" ContentType="image/gif"/>
  <Override PartName="/ppt/media/image16.png" ContentType="image/png"/>
  <Override PartName="/ppt/media/image13.gif" ContentType="image/gif"/>
  <Override PartName="/ppt/media/image30.gif" ContentType="image/gif"/>
  <Override PartName="/ppt/media/image5.gif" ContentType="image/gif"/>
  <Override PartName="/ppt/media/image31.gif" ContentType="image/gif"/>
  <Override PartName="/ppt/media/image6.gif" ContentType="image/gif"/>
  <Override PartName="/ppt/media/image25.wmf" ContentType="image/x-wmf"/>
  <Override PartName="/ppt/media/image29.gif" ContentType="image/gif"/>
  <Override PartName="/ppt/media/image10.gif" ContentType="image/gif"/>
  <Override PartName="/ppt/media/image2.png" ContentType="image/png"/>
  <Override PartName="/ppt/media/image14.gif" ContentType="image/gif"/>
  <Override PartName="/ppt/media/image15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jpeg" ContentType="image/jpeg"/>
  <Override PartName="/ppt/media/image21.gif" ContentType="image/gif"/>
  <Override PartName="/ppt/media/image27.gif" ContentType="image/gif"/>
  <Override PartName="/ppt/media/image23.wmf" ContentType="image/x-wmf"/>
  <Override PartName="/ppt/media/image28.gif" ContentType="image/gi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E42-5B21-4F9A-BF78-3F52826F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187-9DBD-4A09-A6B8-33E4D60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BE5-44FF-4089-8759-CF2FD228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D87-082F-4455-8E7C-E5DF628C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672E-371D-4458-8F08-732A7B8D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33C8-30B5-4D90-954D-C2C0D4D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9BE-B73B-429C-9667-DE7EAED5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D9FD-BE02-4FB1-9B64-C493CBA9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72CD-564D-48A0-B8FF-34E3D7C0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732B-E3AF-4630-BD5F-CA2E9C9D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557F-E145-47C2-AB34-1D176378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92B-D217-42D8-990F-BD0315C6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4E0A-17FD-42CF-AC61-F25A27D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7FE0-1E1D-4D19-BEFE-3F447CEC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8F38-B75A-4CBC-8152-66284F51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A431-F7CD-4308-A351-9B360123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9ED3-0B1D-48F0-A8E0-8647E98E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082-1B53-4AD7-A287-7EBC8183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402-4EA7-4290-BDD3-5C4171DA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97E-C4D4-47AE-B841-899B855B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FEF-0C13-4A55-B8F7-2D2D66C1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FB4-2BC8-4161-841F-C0D0CCD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4C8-AE12-44DA-AA56-F41D752D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50C-FCF6-43C4-AA28-35074DFF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694B-3CE5-4D9B-AD8C-F9CB6467E5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66683" t="6186" r="476" b="18559"/>
          <a:stretch/>
        </p:blipFill>
        <p:spPr>
          <a:xfrm>
            <a:off x="539640" y="6453360"/>
            <a:ext cx="72252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92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51A-88D5-4490-A164-9130CFDAC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66683" t="6186" r="476" b="18559"/>
          <a:stretch/>
        </p:blipFill>
        <p:spPr>
          <a:xfrm>
            <a:off x="395280" y="6453360"/>
            <a:ext cx="722160" cy="252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 Black"/>
              </a:rPr>
              <a:t>Achievement Standard 2.6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 Black"/>
              </a:rPr>
              <a:t>Analysis &amp; Interpre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08000" y="3933720"/>
            <a:ext cx="4907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TYPE: 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CREDITS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21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Three Areas of Business Heal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8000" y="1268280"/>
            <a:ext cx="7010640" cy="5073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alligraph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Calligraphy"/>
              </a:rPr>
              <a:t>Am I making enough Net Profit considering the efforts I am putting in and the money that I have tied up in business capital?</a:t>
            </a:r>
            <a:r>
              <a:rPr b="0" lang="en-GB" sz="2400" spc="-1" strike="noStrike">
                <a:solidFill>
                  <a:srgbClr val="000000"/>
                </a:solidFill>
                <a:latin typeface="Viner Hand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alligraph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Calligraphy"/>
              </a:rPr>
              <a:t>Can I pay my bills as they fall due?</a:t>
            </a:r>
            <a:r>
              <a:rPr b="0" lang="en-GB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alligraph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Calligraphy"/>
              </a:rPr>
              <a:t>Can I weather the storm if there is an expected or unexpected downturn in profitability and/or liquidity?</a:t>
            </a:r>
            <a:r>
              <a:rPr b="0" lang="en-GB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509436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83664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000000"/>
                </a:solidFill>
                <a:latin typeface="Arial"/>
              </a:rPr>
              <a:t>Profitability Rati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16360" y="2060640"/>
            <a:ext cx="412596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Gross Profit 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4920" y="1197000"/>
            <a:ext cx="705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ss Profit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x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30% this means for every $1 of Sales there is 30c of gross pro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lls us how much of our sales are returned as gross profit (the higher, the better) as expenses need to be cov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mark-up percentag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04000" y="765000"/>
            <a:ext cx="906480" cy="17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Markup 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692280"/>
            <a:ext cx="705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ss Prof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25% this means that goods costing $1 will have 25c mark up added to get the selling price of $1.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lls us the amount of profit added to the cost price to get the selling pric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mark-up perce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sales m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sales mix is a change in quantity sold of both high &amp; low mark up goo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rk Up% increases, Gross Profit % increases or vice vers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1382760" cy="17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Example of Markup %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atches (50% MU) Earring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Yr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 Watches 3 Ear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Yr 2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Watches 17 Ear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2 will have a smaller profit because the business has sold less expensive items (watches) and more cheaper items (earring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iness mark-up percentage depends on competitor’s mar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143000" cy="105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Expense 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765000"/>
            <a:ext cx="7058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pense Group   x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Sal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E% =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for every $1 of sales, 10c goes towards paying selling expens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ells us the proportion of sales revenue that is spent on paying expenses.  It indicates how well expenses are being control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ale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ling Expense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ore advertising, more sales’ person wages).  However, SE% should remain the s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ve Expense = stay same. e.g. rent, therefore AE % decreases. Because they will be less in proportion to s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better control over expenses.- Name the expense or expense group that needs better contro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Net Profit 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1268280"/>
            <a:ext cx="705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t Pro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a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% this means for every $1 of revenue, 12c is profit.  T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us how much of sales is returned as net profit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expense % by maintaining better control over expe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GP% by increasing mark up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580000" y="765000"/>
            <a:ext cx="2028960" cy="22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Return on Equity (ROE or RO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1268280"/>
            <a:ext cx="705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t Profit       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sures the return on the owner’s investment in the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turn must be sufficient to compensate the owner for the risk taken by investing in the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turn needs to be compared to alternative investment opportunities. e.g. interest rates, industry average return, return in other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net prof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421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557360"/>
            <a:ext cx="216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O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E Beg + O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Return on Total Assets (ROT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954000"/>
            <a:ext cx="71294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t Profit + Interest  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otal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sures how productive the assets we used are in earning profit for the business.  The business wants this to be as high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ld assets = Repairs/Maintenance incre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NP de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Return on Assets decreas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Net Profit by maintaining better control over expenses especially repairs &amp;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idle (unused) or obsolete (old) non-current asset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1069920"/>
            <a:ext cx="201636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63640" y="404640"/>
            <a:ext cx="705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0" spc="-1" strike="noStrike">
                <a:solidFill>
                  <a:srgbClr val="000000"/>
                </a:solidFill>
                <a:latin typeface="Arial"/>
              </a:rPr>
              <a:t>Liquidity Rati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356000" y="2637000"/>
            <a:ext cx="1623960" cy="38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Stand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98748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619280" y="1916280"/>
          <a:ext cx="7286760" cy="392724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ement with Mer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ement with Excel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 financial inform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 a range of financial inform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 a wide range of financial inform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 information and make recommendation(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 a range of information and make recommendation(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 a wide range of information and make justified recommendation(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12536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Assets – Current Li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 means the firm has $35,000 surplus of Current Assets over Current Li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row long te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 more capital in form of c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idle non-current assets for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drawing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156360" y="3716280"/>
            <a:ext cx="2087640" cy="1932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978600" y="0"/>
            <a:ext cx="216540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Current Ratio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(Working Capital Rati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112536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Liabilities  =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 : 1 means for every $1 of CL the firm has $2.5 of CA. This tells us our ability to repay short-term debts (debts that are due in the next accounting period – 1 yea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atio should be at least 1: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Problems of a high current ratio: High accounts receivable – Problem of bad debts, Too much inventory – may become obsolete (expired, out of fashion etc.), Too much cash -better invested in term deposit to earn inte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row long te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 more capital in form of cas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l idle non-current assets for c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drawing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1197000"/>
            <a:ext cx="2664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66"/>
                </a:solidFill>
                <a:latin typeface="Arial"/>
              </a:rPr>
              <a:t>Optimal Current Ratio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Liquid Ratio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(Quick Assets Rati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112536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and Prepayments are subtra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A as there is no guarantee they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turned into cash in 1-3 mont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d bank overdraft is deducted a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has given the business permission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overdraft and does not need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d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1773360"/>
            <a:ext cx="51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-Inventory &amp; Prepay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- Secured Bank OD         =  x 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Liquid Ratio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112536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1.52:1 means for every $1 of liquid liabilities, the business has $1.52 of liquid ass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us the firm’s ability to repay immediate debts (debts that are due between 1- 3 month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e: The Liquid ratio is the best indicator of liquidity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current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clearance sale to sell obsolete inventory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197000"/>
            <a:ext cx="4105080" cy="1169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66"/>
                </a:solidFill>
                <a:latin typeface="Arial"/>
              </a:rPr>
              <a:t>Optimum Liquid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66"/>
                </a:solidFill>
                <a:latin typeface="Arial"/>
              </a:rPr>
              <a:t>1:1 – 1.5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996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000000"/>
                </a:solidFill>
                <a:latin typeface="Arial"/>
              </a:rPr>
              <a:t>Financial Stability Ratios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513160" cy="265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780000" y="321300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Equity Rati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(Gearing Rati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1125360"/>
            <a:ext cx="7524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wner’s Equ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x  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sse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0.6:1 means for every $1 of assets the owner ha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a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0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lls us how much of the business assets has be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a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ow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ratio needs to be greater than 0.5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tio is less than 0.5:1, the creditors will force the business to sell the assets to repay them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tio is too high, this means the business is not making use of external funds (borrowing) to expand the busines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tio is low, the owner must invest more ca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tio is high, borrow more long term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1197000"/>
            <a:ext cx="4105080" cy="86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Optimum Equity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0.6:1 – 0.8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92316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0000"/>
                </a:solidFill>
                <a:latin typeface="Arial"/>
              </a:rPr>
              <a:t>Management Effectiveness Rat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32000" y="2363760"/>
            <a:ext cx="4176720" cy="39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Inventory Turnov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1413000"/>
            <a:ext cx="752472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_____times per y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243160" cy="202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72360" y="4724280"/>
            <a:ext cx="2568600" cy="17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ntory Turnover Continue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3640" y="1484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998640"/>
            <a:ext cx="71276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12 times per year means that the business is selling on average its entire stock 12 times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Tells us how long an average inventory is in the store before it is sold and how many times the business sells its entire inven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The ideal inventory turnover depends on the type of business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a jeweller may have 1 or 2 stock turns a year, a greengrocer 200 stock turns a year and a baker will have to have a daily turnover period otherwise the stock is stale and worth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different business would have its own industry a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Goods with a higher mark-up% usually have a lower turn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interrelation). Lower mark-up made up for by greater sales, therefore a high stock 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ntory Turnover Continue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a low inventory turno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better invested elsewhe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insurance premi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and warehous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risk of deterioration/obsolesc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ut of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 items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77300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871640" cy="1560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260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134136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wide rang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would typically involve nearly all of explanatory notes 3 and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 recommendatio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tails a strategy that will improve an identified weak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 justified recommendatio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plains how the recommendation will improve the identified weak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476280"/>
            <a:ext cx="6769080" cy="5205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Explanatory Notes from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ntory Turnover Continue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18920" y="119700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Improve the Inventory Turnov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purchasing procedure (why are we buying too much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learance sale to sell off obsolete stock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095640" cy="23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19280" y="620640"/>
            <a:ext cx="7524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.4 = 36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.8 = 36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.001 = 36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WAYS round to the next full d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(general rounding rule does not app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s that the business is collecting its accounts receivable on an average every 36 day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how many days our customers take on average to pay their deb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uld be an average 35-40 days or bet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off long overdue a/c as Bad deb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 credit chec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urage payment of accounts by offering discounts or charge interest for overdue accou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credit collection policies. i.e. send regular statement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ge of Accounts Receiv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836640"/>
            <a:ext cx="49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erage Accounts Receiv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credit sales + GST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1773360"/>
            <a:ext cx="3673800" cy="95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66"/>
                </a:solidFill>
                <a:latin typeface="Arial"/>
              </a:rPr>
              <a:t>Optimum Age of Accounts Receivable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66"/>
                </a:solidFill>
                <a:latin typeface="Arial"/>
              </a:rPr>
              <a:t>35 – 40 days or 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167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000000"/>
                </a:solidFill>
                <a:latin typeface="Arial"/>
              </a:rPr>
              <a:t>Interpretation</a:t>
            </a:r>
            <a:br>
              <a:rPr sz="7200"/>
            </a:b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- What do all the numbers mean??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022560" cy="287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192400" cy="3311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696000" y="3284640"/>
            <a:ext cx="1843200" cy="263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59636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47280" y="836640"/>
            <a:ext cx="7596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Mark Up Percentage will increase Gross Profit Percentage and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Up Percentage is linked to both sales and inventory turnover. A decrease in mark up should lead to an increase in sales, and an increase in inventory turnover as the sales volume has im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Gross Profit Percentage should lead to an increase in Net Profit Percentage. If not, the firm has less control over expen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rease in Expenses Percentage (better control over expenses) should lead to an increase in Net Profit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flipH="1">
            <a:off x="0" y="-171360"/>
            <a:ext cx="1650960" cy="177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fitability Continued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391520" cy="492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rease in Net Profit Percentage is not necessarily detrimental for the firm as the net profit figure in the Statement of Financial Performance has increased. A higher net profit figure means that the firm is more profitable even though it may have a lower Net Profit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net profit figure will usually lead to an increase in the return on owner’s equ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apital figure in the Statement of Financial Position has increased, and Net Profit has remained constant the return on owner’s equity would de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60436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Liquidity/Management Effective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4360" y="1197000"/>
          <a:ext cx="8078760" cy="5073480"/>
        </p:xfrm>
        <a:graphic>
          <a:graphicData uri="http://schemas.openxmlformats.org/drawingml/2006/table">
            <a:tbl>
              <a:tblPr/>
              <a:tblGrid>
                <a:gridCol w="1223640"/>
                <a:gridCol w="1295640"/>
                <a:gridCol w="2448000"/>
                <a:gridCol w="31114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quid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o much ca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 of Accounts Receivable sl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sted in interest bearing accou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off bad debts, and check credit collection polic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rease in Inventory turnover with the possibility of obsolete stock or oversto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rance sale of obsolete stock 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ck procedures when purchasing stock 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off any obsolete stoc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large secured bank overdraf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ck assets have been financed by non current liabilities (long term sourc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 in unsecured bank overdraf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ts financed from short term rather than long term sour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er invests cash or reduces amount of draw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ck assets have been financed by non current liabilities (long term sourc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838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7010640" cy="45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quity ratio is low and the liquid ratio is low, the owner should invest mo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quity ratio is high and the liquid ratio is low, the firm should borrow from long term sources eg increase mort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76360" y="0"/>
            <a:ext cx="6913440" cy="64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Analyse financial information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ans calculate analysis measures selected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measures of prof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rk-up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ross profit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enses perce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t profit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turn on equity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ate of return on total assets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measures of liqu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urrent ratio/working capital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iquid ratio/quick asse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measures of financi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quity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measures of management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ventory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ge of accounts recei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45120" y="2276640"/>
            <a:ext cx="30988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360" y="1440"/>
            <a:ext cx="766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rmulae will be provided for analysis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will be selected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analysis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financial information presented as graphs, tables or financial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comparative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non-financi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Interpret information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ill include using the context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plain the analysis rat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plain possible reasons for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plain possible consequences of a continued t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ovide links between analysis measures and other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ovide links between related analysis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validly comment on an entity’s financial performance, and/or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nancial position, and/or cash flows, using comparative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gures (including industry averages) and results 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 compare the financial and/or non-financial information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lating to the business, or to two sole proprietor busi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ubject Specification 200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67520" cy="4857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mat of th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ies of Short Answ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t least one PARAGRAPH question based on a variety of resourc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mulae WILL BE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Resource Book WILL BE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RATIO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o be rounded to 2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ERCENTAG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o be rounded to 1D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79640" y="0"/>
          <a:ext cx="63594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0"/>
                    <a:ext cx="6359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eaching Poi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35280" y="836640"/>
          <a:ext cx="7010280" cy="5541840"/>
        </p:xfrm>
        <a:graphic>
          <a:graphicData uri="http://schemas.openxmlformats.org/drawingml/2006/table">
            <a:tbl>
              <a:tblPr/>
              <a:tblGrid>
                <a:gridCol w="2220840"/>
                <a:gridCol w="47894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Criteria 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sible meaning/requirement of the word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e analysis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ain the analysis ratios, possible reasons for trends, possible consequences of a continued tr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de links between analysis measures and other information; between related analysis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 on the validity of an entity’s financial performance, and/or financial position, and/or cash flows, using comparative figures (including industry averages) and results of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e the financial and/or non-financial information relating to the business, or to two sole proprietor busines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Strategy that will improve an identified weak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st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 explanation of how the recommendation(s) will improve the identified weak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996240" cy="110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Three components of </a:t>
            </a:r>
            <a:br>
              <a:rPr sz="3600"/>
            </a:b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Business Heal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1916280"/>
            <a:ext cx="6408720" cy="43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2205000"/>
            <a:ext cx="1657080" cy="158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4437000"/>
            <a:ext cx="1657440" cy="158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4508640"/>
            <a:ext cx="1657440" cy="158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373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924000" y="3645000"/>
            <a:ext cx="57636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573360"/>
            <a:ext cx="647640" cy="79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03:22:50Z</dcterms:created>
  <dc:creator>NZCETA Curriculum &amp; Membership Services</dc:creator>
  <dc:description/>
  <dc:language>en-US</dc:language>
  <cp:lastModifiedBy>dawekE</cp:lastModifiedBy>
  <dcterms:modified xsi:type="dcterms:W3CDTF">2006-10-15T03:02:00Z</dcterms:modified>
  <cp:revision>34</cp:revision>
  <dc:subject/>
  <dc:title>Achievement Standard 2.6 Analysis &amp; Interpretation</dc:title>
</cp:coreProperties>
</file>